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498A-24E8-49BB-9985-5633FC0D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B02F-4396-4887-AF81-3A2DA26E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2F77-E33F-4D82-B8E1-BED54EF7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2931-52EF-464C-9395-C4D92B4B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C304-03A6-4ED9-9400-4105905B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9131-F770-4808-AB81-5DC64617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52EE-F989-42C8-A33F-E6A130F2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549E-FBB1-433B-ADAF-9B57320A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6961-106A-4CC6-AC10-C0C31B9C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8D43-6ED4-4503-8412-7FDC5288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9D19-89EC-4927-B18E-D1CE2485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ADE4-F8A0-4263-8F66-4035F043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274C-B199-4C66-84FC-3521582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EFA0-CCF0-48BB-9086-F2EADA1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DCBC-3BD1-49AD-93A2-C7F06710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9268-8ACB-452B-8897-8B58F05F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AD1D-F7E4-4607-B559-EB019A98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4F4C-C1AA-4798-BF17-2834395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56634-5B70-4DCA-900A-745355E5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14C0-EC03-4C9E-88FA-C2D3AFAB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3927-1991-442A-9CDC-699D7FF5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FE768-5A9E-4810-9491-B17FDA44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9609-21C3-44B7-A315-A2727209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3F96-0F4B-4FB1-B495-99873A06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E741-2AF8-4D4F-9F46-DFD1C3785E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A7A4-395A-4063-A823-1A52547B1E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1" descr="Герб цвет без вч"/>
          <p:cNvPicPr/>
          <p:nvPr/>
        </p:nvPicPr>
        <p:blipFill>
          <a:blip r:embed="rId1"/>
          <a:stretch/>
        </p:blipFill>
        <p:spPr>
          <a:xfrm>
            <a:off x="539640" y="260280"/>
            <a:ext cx="156528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95640" y="40464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ое образование Каменский рай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68360" y="2205000"/>
            <a:ext cx="4896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Добро пожаловать в </a:t>
            </a:r>
            <a:endParaRPr b="0" lang="en-US" sz="18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Каменский район!</a:t>
            </a:r>
            <a:endParaRPr b="0" lang="en-US" sz="18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893080" cy="5300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68000" y="836280"/>
            <a:ext cx="6264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Сельское хозяйство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9452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грарный сектор экономики Каменского района  базируется на деятельности 15 коллективных сельскохозяйственных предприятий, 75 крестьянских (фермерских) хозяйств и 15 сельскохозяйственных кооператив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82480" cy="72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4468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010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Теплоснабжени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82840" cy="720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0504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5757840" cy="3117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68360" y="17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а территории Каменского района обеспечено безаварийное теплоснабжение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7640" y="907560"/>
            <a:ext cx="6218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Ремонт дорог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82840" cy="72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63196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032360" cy="2394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4032360" cy="2325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4103640" cy="2592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1700280"/>
            <a:ext cx="39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 2019 году выполнены работы по содержанию, благоустройству и ремонту доро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873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Образовани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82840" cy="720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6068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628640"/>
            <a:ext cx="840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 системе образования  района занято 673 педагогических работ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0" descr="i (6).jpg"/>
          <p:cNvPicPr/>
          <p:nvPr/>
        </p:nvPicPr>
        <p:blipFill>
          <a:blip r:embed="rId2"/>
          <a:stretch/>
        </p:blipFill>
        <p:spPr>
          <a:xfrm>
            <a:off x="324000" y="2565360"/>
            <a:ext cx="4140000" cy="2408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11280" y="5084640"/>
            <a:ext cx="370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 общеобразовательных организациях обучаются                        4764 челове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2" descr="i (8).jpg"/>
          <p:cNvPicPr/>
          <p:nvPr/>
        </p:nvPicPr>
        <p:blipFill>
          <a:blip r:embed="rId3"/>
          <a:stretch/>
        </p:blipFill>
        <p:spPr>
          <a:xfrm>
            <a:off x="4932360" y="2565360"/>
            <a:ext cx="3959280" cy="2227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254560" y="5084640"/>
            <a:ext cx="34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 детских садах воспитываются                1903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010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Здравоохранени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8248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8904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1989000"/>
            <a:ext cx="3168360" cy="16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  <a:effectLst>
            <a:outerShdw dist="153753" dir="27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Камен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ежрайо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боль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2060640"/>
            <a:ext cx="223200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Детск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Консуль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на 200 посеще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в сме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2133720"/>
            <a:ext cx="2376720" cy="143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ликлин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на 600 посещ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в сме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4365720"/>
            <a:ext cx="273492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Ф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4292640"/>
            <a:ext cx="273528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мбулато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 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4005360"/>
            <a:ext cx="2266920" cy="15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Фельдшер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ун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 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2555640" y="285264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2852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8263200">
            <a:off x="2700000" y="3716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428360" y="3788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2388000">
            <a:off x="6227280" y="3644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1196640"/>
            <a:ext cx="7731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Arial"/>
              </a:rPr>
              <a:t>Учреждения культур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82480" cy="720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44680" y="33336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19162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территории района функционируют  29 домов культуры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5 библиот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сего в учреждениях культуры работает более 180 челов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Ежегодно учреждениями культуры проводится более 5000 культурно- досуговых мероприят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2678400" cy="1904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03640" y="4653000"/>
            <a:ext cx="2950920" cy="1971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28159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84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66"/>
                </a:solidFill>
                <a:latin typeface="Arial"/>
              </a:rPr>
              <a:t>Спор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82480" cy="720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48904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628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  районе занимаются спортом более 26 тысяч человек.  Для занятия спортом имеются 104  плоскостных спортивных сооружения, 47 спортивных залов, 2 стадиона (один из которых имеет поле с подогревом), плавательный бассейн «Олимп», 7 хоккейных короб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843280" cy="1684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156360" y="3141720"/>
            <a:ext cx="2736720" cy="1608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987640" y="5013360"/>
            <a:ext cx="3025800" cy="1655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79280" y="5013360"/>
            <a:ext cx="2521080" cy="1623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79280" y="3068640"/>
            <a:ext cx="2502000" cy="1676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132000" y="3068640"/>
            <a:ext cx="259236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1773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Monotype Corsiva"/>
              </a:rPr>
              <a:t>Вам у нас понравится!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Monotype Corsiva"/>
              </a:rPr>
              <a:t>До встречи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9040" y="33336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824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396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щая площадь муниципального образования 217 тысяч г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а территории района находятся 12 муниципальных образований, в которые входят 66 населенных пун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696960" cy="863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12680" y="33336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4146" t="11533" r="4936" b="13093"/>
          <a:stretch/>
        </p:blipFill>
        <p:spPr>
          <a:xfrm>
            <a:off x="4067280" y="765000"/>
            <a:ext cx="5076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907920"/>
            <a:ext cx="648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66"/>
                </a:solidFill>
                <a:latin typeface="Arial"/>
              </a:rPr>
              <a:t>Экономический потенциа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На территории района осуществляют деятельность 561 предприятий и организаций, из них 243 малых и средних, в том числе 28 кооператив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Более 1100 индивидуальных предприним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82480" cy="72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89040" y="33336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887640" cy="2521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7304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582480" cy="72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04680" y="98100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авод «Белинсксельма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4105080" cy="231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4103640" cy="2376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859280" y="4221000"/>
            <a:ext cx="38181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35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аменский Райпищекомбин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3196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82840" cy="72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4105080" cy="2257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859280" y="1773360"/>
            <a:ext cx="3889440" cy="2376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00200" y="208116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1528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Выпускает 76 наименований колбасных издели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8 наименований мясных консер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1341000"/>
            <a:ext cx="67071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вод по производству растительного масла ООО «ТРОЙКА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582480" cy="720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6068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WP_20130821_021"/>
          <p:cNvPicPr/>
          <p:nvPr/>
        </p:nvPicPr>
        <p:blipFill>
          <a:blip r:embed="rId2"/>
          <a:stretch/>
        </p:blipFill>
        <p:spPr>
          <a:xfrm>
            <a:off x="179280" y="4076640"/>
            <a:ext cx="2987640" cy="2174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2842920" cy="1882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80000" y="1628640"/>
            <a:ext cx="2664000" cy="4608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76720" y="2133720"/>
            <a:ext cx="2879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а предприятии занято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00320" y="40464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82840" cy="720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Фото производства"/>
          <p:cNvPicPr/>
          <p:nvPr/>
        </p:nvPicPr>
        <p:blipFill>
          <a:blip r:embed="rId2"/>
          <a:stretch/>
        </p:blipFill>
        <p:spPr>
          <a:xfrm>
            <a:off x="395280" y="4221000"/>
            <a:ext cx="4032360" cy="2332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Фото производства"/>
          <p:cNvPicPr/>
          <p:nvPr/>
        </p:nvPicPr>
        <p:blipFill>
          <a:blip r:embed="rId3"/>
          <a:stretch/>
        </p:blipFill>
        <p:spPr>
          <a:xfrm>
            <a:off x="4572000" y="1557360"/>
            <a:ext cx="4176720" cy="2330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Фото производства"/>
          <p:cNvPicPr/>
          <p:nvPr/>
        </p:nvPicPr>
        <p:blipFill>
          <a:blip r:embed="rId4"/>
          <a:stretch/>
        </p:blipFill>
        <p:spPr>
          <a:xfrm>
            <a:off x="324000" y="1557360"/>
            <a:ext cx="3889080" cy="248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Фото производства"/>
          <p:cNvPicPr/>
          <p:nvPr/>
        </p:nvPicPr>
        <p:blipFill>
          <a:blip r:embed="rId5"/>
          <a:stretch/>
        </p:blipFill>
        <p:spPr>
          <a:xfrm>
            <a:off x="4859280" y="4365720"/>
            <a:ext cx="3960720" cy="2232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843280" y="3141720"/>
            <a:ext cx="3529080" cy="158256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АО «Атмис-саха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89040" y="33336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8248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4319280" cy="2557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5508720" y="3141720"/>
            <a:ext cx="339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076720" y="4286160"/>
            <a:ext cx="3816360" cy="228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076720" y="1197000"/>
            <a:ext cx="3743280" cy="249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59280" y="3068640"/>
            <a:ext cx="3457440" cy="16556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ндитерская фаб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ОО «Диад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8284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705040" y="476280"/>
            <a:ext cx="55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униципальное образование Камен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hoto_item_img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3816360" cy="2538720"/>
          </a:xfrm>
          <a:prstGeom prst="rect">
            <a:avLst/>
          </a:prstGeom>
          <a:ln w="0">
            <a:noFill/>
          </a:ln>
        </p:spPr>
      </p:pic>
      <p:pic>
        <p:nvPicPr>
          <p:cNvPr id="164" name="photo_item_img" descr=""/>
          <p:cNvPicPr/>
          <p:nvPr/>
        </p:nvPicPr>
        <p:blipFill>
          <a:blip r:embed="rId3"/>
          <a:stretch/>
        </p:blipFill>
        <p:spPr>
          <a:xfrm>
            <a:off x="5003640" y="3860640"/>
            <a:ext cx="3888000" cy="2584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9280" y="2421000"/>
            <a:ext cx="50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АО «Студенец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льн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2:58:53Z</dcterms:created>
  <dc:creator>Николай</dc:creator>
  <dc:description/>
  <dc:language>en-US</dc:language>
  <cp:lastModifiedBy>quantum</cp:lastModifiedBy>
  <dcterms:modified xsi:type="dcterms:W3CDTF">2020-01-30T05:34:31Z</dcterms:modified>
  <cp:revision>230</cp:revision>
  <dc:subject/>
  <dc:title>Слайд 1</dc:title>
</cp:coreProperties>
</file>